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593-FDB0-4654-A6D0-3C73BCBB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AC2-B490-4EFB-BB7E-845E0CB1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4B18-BA32-48A6-9B44-6059699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D60D1-8D5A-46D7-ACE6-67DA02E9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C2EB-F5BA-47FC-B0BD-E521E3A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E1D3B-69CF-481E-8F45-78B6D06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FA46D-3EE3-4E01-A64D-8EC251A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488FC-941B-424B-9C92-1D2468E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F68AB-6DAB-40E6-B891-B2D7AAF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E989C-9EA8-4C5C-A4C8-52FBA456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0C8F5-D76E-4324-A297-E2D066C1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4ADA1-D927-453E-A025-829C2F54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4EA-114C-4559-BCFD-BFD66909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B3CC-7BEB-4202-8F8E-596599D0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A66E-B883-4083-ACFF-1943BBD5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4B788-1EB5-4A7A-8AF1-516C6303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40881-98A0-4841-B1A3-B5181660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68280-5CE1-4FD1-9014-4D5E724B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7A69-94F5-43AA-A7FF-B68254A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656DC-EB82-4D96-8E00-C1E82D55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05574-4CED-442B-A5EC-60761C9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2F3D0-C31D-4E96-A86F-F14DAFD2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3A205-F44E-402B-BDBF-5DF7BEDA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232-351E-49EA-B71D-5633CF91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4FCD-2665-4B79-8DB8-D07321B0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5E1F9-604C-41DA-A02D-E9FA81E7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7AB02-9286-4C7C-BD69-9C4890E1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8964A-5C61-402E-A6D5-47077A5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A05B-C11D-4A59-8474-B8492D9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2690A-0FBB-4811-8FDB-C54F2E5A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F39D2-BCC4-4D3F-9AE3-9FE25130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73657-D899-4761-942A-9FD225C3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4AA84-65A2-44E7-BD53-E2E28FD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2C0D0-EA14-4936-9E04-260C98B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04B-0CF8-4B60-B54B-9546CD50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1A702-236A-4FF9-AE01-CA04BD0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A2C6-72FD-4E56-B22A-68831109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85B4-383B-4A11-A938-2122C6CF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A2D17-7B1A-4598-83AA-3171DA5C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AE9B2-31B0-43F6-82C8-BA4F6F6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A113A-D67A-4722-A1E5-D095CC0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1EB0E-B81F-4FE2-8B95-552454D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42380-E6D6-4B6C-8058-DDB1E6A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AAB51-24E4-4963-BE3B-8F536C4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6BD6E-1BA8-432C-AC25-1AA2FE2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7F09-D83E-4856-95D2-011726B5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FAF9F-798C-4194-AC3B-AD5DE35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135D9-69E7-43F1-9A18-306C41D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DCFC1-331C-4FB1-844C-F3D3EE2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B9BE0-1BE3-42CD-8C06-0063D3F6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7503E-58D5-4A5F-8D26-EFCBD51C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6C2E9-4785-4B7D-A611-77FBB50C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4CAF6-1136-4E15-972C-CBC43D6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8336F-2A44-4268-8B69-FE10BE9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D3ECE-C265-48BE-BF0B-03B121CA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D1545-8FF1-4A12-A842-A9F7897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00BA-006D-437C-A411-DDFDE88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FBFF8-3A5B-4F22-BC19-72F84E9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78D5C-55C2-4B87-B990-2C2EC9D1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2CC05-771E-457B-922B-B509F5F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3AD9-E4C2-4BCC-9674-B361A7B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0A53B-1718-4AC4-AA98-C0DC466B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F0A4B-DBA8-4168-9E8C-3109FD0C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80DB7-E48D-4FE0-936A-0AFDEE47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FFB08-EF02-4D6F-9FF9-45700A59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4A4A6-7CFD-4549-B8B4-CE533758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82EA1-19AF-4EBE-AA42-21DD86A6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B81-7A86-43E0-B8F3-6674DAA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FAB69-3E14-4CF0-9C5A-7B40CC6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05C46-ECF1-4F58-9392-73AC5CA4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1EDA6-CBDF-49E6-9CBF-47F163DD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481BC-80FE-4D06-AFE7-7AA5BB10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61F30-0EE0-4657-9084-3CB424E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5E4CB-7CD1-4A0F-BDCF-04FE208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9F622-E948-47A4-97CD-CD9B0DE7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FD2C7-095F-44D0-909D-BCC20815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4B0E6-9384-4BB5-8DF1-E96E44C1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8335C-CA96-4AF4-BBAC-FF31D14E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8564-4981-4B4E-9644-B632FE3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078A9-D0D0-408B-8814-14150628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8A95C-77F9-48F6-B1AB-D2F528B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A5AAB-EE85-4602-BFB3-C62BED6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03E09-7C12-42D1-9F8F-6B2BB722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243F6-902F-45B3-A7FE-467680AE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CD357-FE01-4DC9-81BE-D01D349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D5245-D17F-4322-B52F-31AED2BC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601EE-EE8A-4841-AD9D-FDB3417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D33A5-7F8D-439B-A325-EF90638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BDAB2-5480-4970-8DFA-C8D49D3D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0273-FDA4-46E1-A859-DB70EEC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8AE15-02D1-49B2-A929-757C1030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9BFB8-9684-4B9E-AD7F-B5D2B754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C6F76-C08B-4D82-B320-24B4622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3A4F6-1B15-44E3-A74F-A712C13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143EE-F4F1-45CA-8137-2539CBF1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2B165-A366-4021-8955-0082969C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DA270-2C12-40AE-A5DD-2D8B59F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10D40-69D9-49FB-A792-C4CC1C5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2AEC9-88DC-4E02-8917-45534836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E21A7-5367-484F-8483-303A563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C233-7A3C-4BDF-8D80-D7BAC658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32D36-2C75-43C8-9687-7FD0FCB7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245AB-99C9-4633-A418-0FBA2C20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F0412-BB3E-4F22-B7B2-46AD68E2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16945-8580-462A-9F55-2C60371E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2C4D7-C104-4C0F-91F8-5B631A71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C10AD-DA7D-4ECC-BE53-05C88C2C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6FA92-27F6-43B5-95A5-32E33E5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8B3D8-A289-4CA9-A91B-F51F452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57404-95A7-4655-8950-DC08FBE2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89CD8-8784-4259-9E69-6A06013E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3D6-4CE1-452C-B4AD-B31DC19F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C4E8-C537-47A9-8942-4CF8502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13D5C-7F8D-42D9-B292-E116AFFA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019BE-879B-4201-9AEF-2F99E0F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D39FF-BCF8-497D-AD4B-6A54A5F6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24D4A-83E0-4C74-A60F-7E4CF448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2203F-74CB-4451-9199-8210FD3B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BE52A-0532-473F-A7B2-1576860F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96EE2-AC37-4678-90D0-C7D71305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A2D76-2AE5-48FB-B469-1308B3D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30549-8E3A-4F80-BB6E-352FF4C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1C5E1-D490-4F7C-8D47-BB82D624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1434-DF59-49DA-9484-30EED5B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D1C30-8773-4FE2-9A17-9EFAE4D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AF608-42A9-49C4-8203-14C2F63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5E4CC-3A92-4EF2-9E4C-50D9B5E4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2B3C1-9760-44D6-BE2D-20FB91CD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A3A4B-E080-4A61-8825-5A31C7F2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C6013-E122-434A-9444-9E7EB392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0C95B-DE4C-4171-8BD0-A2A4C789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0322B8-660C-4722-AFAC-5294F219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A59A1-4FB9-4DF6-AD63-D5FE7A3D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78AE2-A6D0-4E91-B96E-529D9471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AE22-0430-456F-88D1-1DE61ED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A80CA-FE1D-49A3-8B49-8FC0F4D0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01BED-2331-4C56-946E-6802214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A60E0-F78A-4C3A-8739-4E82293A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0EBF35-0B48-44F8-8B84-93E42A7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3CCD5-468D-4C73-AF23-837D6A6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A8C99-528E-457D-810A-79C714C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68E03-CD41-447A-BD02-BCB681F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53439-F640-445A-8A8D-1E2A51AD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D8B16-3FFB-42CD-82F0-E0548F52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3A2E5-69EB-406C-BAAE-C59439A2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FCEE-26D7-40EA-981B-C8CC3EEA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FF6BD-10A5-431E-9FA8-9A440B7B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D3084-52FA-443D-8F67-6C4976AE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A19F3-D444-4A48-A628-67707C9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AD71A-FA96-4ABD-A339-4A2D03CD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90F04-8BDE-4D07-9492-2B5CABAB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1383A-0474-46E4-9CC8-F4808EB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8829E-1543-40F3-B9E1-0400D89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8A48E-85F5-4337-BDF6-5EB4EA7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FBEB7-CA15-4D6C-BE51-6BDAD769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68819-33EE-4F2A-B4F9-389B3F41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8077-A2BB-4434-9E0A-F6B8288D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235DC-F4BF-4FF1-A2A3-0DC35CC8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57156-C4F5-4F15-B2B0-4E820B21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46494-4A64-4A10-805A-25781ED4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D91F6-1402-4F11-AC61-FA269402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15329-E3B3-406F-80B9-52FAC398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C8F9B-0975-4F6B-B9D1-88179562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C310C-EABA-4109-8ECE-E0A67D0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DF0F7-7027-47CB-9D51-424B7AD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3DBBD-88B9-400F-9DD4-E0BF052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B3446-6067-4DDA-97D6-7AE933B2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DEC6-63A7-499B-B8F5-9550AD25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6307E6-5E59-47C6-84C6-7B515BD6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13FFE-7B39-4CFB-827B-AEC4E626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02ABA-71B1-48A8-BA4A-228AF54B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EDB8-271C-490B-9483-F91E9718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FE11-D0DF-4C3C-A2BE-9B17035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4A60-12E9-4D11-9188-EB174C1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9EFD-79BA-4D9C-A43E-768FAE88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B6B-BB7B-4D4C-90B5-09D7E272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57BC-0290-4321-BFF1-CD6548EA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4747-A0EF-4063-B35B-FA993B4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4753-F91D-42E8-93BE-39D0596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0C05-AE00-4D3B-B664-631E214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4820-F6EC-46AD-A3AC-7D5038A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FC83-D9A9-4104-906D-BB0A1770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294B-D525-450F-AEC7-C083CDB8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85395-9642-47B4-9115-7014312C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DF15-677C-492A-A47C-DD4F103E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33B6-6FD8-490B-B90E-7F6CE8C3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7AB-CAB6-4BDC-A8C4-EC4E1F96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C548-ACC8-41BC-A060-890A683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CCFD0-DD67-4DD2-84C8-8B6B7708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5AFB-9BE5-42EF-BB98-5ADE8C2C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5EB5-0FB7-4C24-96C6-95FD9493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170E-107B-4DC6-B965-9EFAEB7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507E-2F71-4025-B488-A5E9583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42D3-13E2-44B6-AC7E-5F8F660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6BDF-37EF-40EE-9019-D40D4E21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50B6-D4E2-4AF3-8515-005DC7CF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19AC-5C2C-44B6-81C2-81EC916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B76-59E8-4EC1-8E72-0FAB18C5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043C-F180-415E-8B8D-B12661F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C495-30F4-410E-BB5A-7AC61E9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3F59-0D1D-409E-9217-C732481D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4B108-3754-47D9-A66B-3D3BF73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C163-A2AD-4D4C-A3AC-03C6BC1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6C73-F7AE-457E-8C05-0D9DCE7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62B6-35EC-4EEF-AEF8-0D32F15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9BC15-A1B0-4E4B-B836-D54B20F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788B-4560-4390-B885-DEFB076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FE7C-81F5-4AB0-9B42-265AF71B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E86-6C8E-4DCF-9189-6F08A08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4EBD-7AEE-4572-BDB7-EC281F4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7566-EC0F-4186-A6BC-033AC1CB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730C-1663-464A-B66F-5435A42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9C2D-5B5C-4272-ABA7-9A79E0E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5C55-6687-4200-B203-389EBFF6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3D5F-8B1C-4339-9AC3-4F733157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805C-F2C2-438B-98A3-A693CA6A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A836C-4F94-4D7B-90D7-8C227BF4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F33C-D50E-4ECE-9665-6590E265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F87B-3CB7-4B4C-B18A-B46A77C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42F-BB0A-4664-B67A-50748DE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67F5-4AAE-4024-A452-BFA0291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3139A-DC08-4548-B2FB-62499209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0DC24-A2E2-455C-A0B4-C4C888C3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F89B8-1673-43B2-9984-3D4E93CF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9F38-00CC-44D5-9134-39AC184D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355F-2792-4ADD-B0DB-2F5945E0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0BE4-BEFB-4D0B-94AD-ED7E1964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CA9A-8AAE-469C-9ED5-8392FBDB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6342-68E4-4E3B-AF84-11E425F9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E1104-43A3-421D-ACBD-2790FB1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52E-0258-4B39-BE1E-1DF9859D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35EF9-C437-48A9-8D11-EA644B3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CDAA-A96D-49D1-A7BB-3EC7281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5C89-F1B3-4B08-AC22-EEA707A9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1D21-1FFA-4F68-81BD-743FDD5F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92A6-E617-427B-844E-895E74B3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C2FCA-6972-4AD6-846E-959FEC04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767C0-4398-4A22-9510-A3674B5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01E7-FFF4-4963-8264-8F89334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B49BD-8C67-4A9E-90CC-F4F043C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46470-9379-4A9C-BD00-2C0B60F7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3C4-D5BF-4B2B-9484-3D47E24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1B2C-1442-408F-B972-2169241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6192-0A3C-45CF-BA6B-60D3070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5BB7-0D89-460F-A899-634D9DB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6F2B-656E-4DDA-8B2B-86BC2A8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491BE-BFD9-4723-80F9-3B1B7504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0DA9E-B8E1-42A5-8318-C8BB466E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4BCA-A90D-40CC-AD34-53F0B1C7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980C-7891-4C72-9632-25AC5B0F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EB69-0389-4F30-8405-51CE041D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0222D-8C63-4E86-A7E4-8B14F514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607B-6043-48B0-832D-634F0768B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A73-3DC0-4630-BF19-1188E6B6F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853A-FB5B-4CD0-88FB-AA0C863DA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D7FC-5767-4DF5-A510-5A30BEFF1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10EF-0436-4EC3-AC00-FBF3599B2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F37-A15E-4D7B-8E80-FE1B7BED1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62D-6528-45FA-AE16-CE5D22B8A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EFE2-4105-4FA2-A257-F13351CB4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9346-FD81-4CD9-9D56-A5C0AEEA6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732A-AB87-420B-A196-85E76CAA3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C93-9FD3-4D6F-816B-5D389BD18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07E-959B-4BA6-9E9E-9E56AE6D68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19F-83E6-4710-BF11-5A897AF2E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66F1-FBBF-4C67-ACEF-58F31BEA5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126-B3BE-4E41-97BA-DC528C0B7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13E-398F-4009-BBFA-92362D9D81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DAE4-3B91-4C5A-B81F-DC7F3A295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30B7-ADF1-4D84-8896-22F503F85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19A-FDAD-4A6A-93E6-53308AABC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974-817A-41F8-8552-3CB4050FC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318-7B26-4166-A0B5-AE33901AA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DAC-1E34-42CF-BF5E-C04CF4176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D595-5790-49EB-8E9E-96BE1C575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ADC-C042-4A2B-AD07-FF5AAA4AA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D2E9-E223-4972-BDE3-F0C5AE9C1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05CC-5FD5-4F12-91E5-CA39CE0EC5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A3E-BCC5-4DAC-B41C-307C8F3DA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20D-78F5-4B63-A9E6-5D37822234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362-A18A-46A2-97A6-2FB210C22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4A54-B314-427B-A0BA-783BF07DF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AB0-F673-4B8F-B8FC-201268734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0E6E-F958-464E-850E-EFBD17596C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3A11-6347-4B6D-A511-3043A32803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9FA2-0943-4436-A99A-6A08FE3649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2E1-CB94-4E64-A877-BB2A36D89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560E-9A6D-46C2-A5A3-33FA40FBC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12DF-B2E9-4020-9462-98A9C75F9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6A0A-CA7A-41A6-8547-2605E0D73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64B-8552-4195-978A-053DB3CF3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FA0-C069-4E56-8BD6-26E1E48FD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995480" y="2590920"/>
            <a:ext cx="5153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47680" y="709560"/>
            <a:ext cx="8648640" cy="5438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7754760" y="1398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4413240" y="2168640"/>
            <a:ext cx="446040" cy="396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771640" y="3184560"/>
            <a:ext cx="863640" cy="396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2556000" y="3701880"/>
            <a:ext cx="863640" cy="397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2556000" y="4192560"/>
            <a:ext cx="863640" cy="397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2843280" y="4695840"/>
            <a:ext cx="863640" cy="396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2627280" y="5186520"/>
            <a:ext cx="64764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223920" y="1252440"/>
            <a:ext cx="8696160" cy="4353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02800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8028000" y="3284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8373" descr=""/>
          <p:cNvPicPr/>
          <p:nvPr/>
        </p:nvPicPr>
        <p:blipFill>
          <a:blip r:embed="rId1"/>
          <a:stretch/>
        </p:blipFill>
        <p:spPr>
          <a:xfrm>
            <a:off x="247680" y="1047600"/>
            <a:ext cx="8648640" cy="47628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067280" y="1023840"/>
            <a:ext cx="503280" cy="8924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3203640" y="200484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8028000" y="3500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504720" y="276120"/>
            <a:ext cx="8134560" cy="6305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755640" y="1282680"/>
            <a:ext cx="4608360" cy="922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755640" y="3270240"/>
            <a:ext cx="6840720" cy="922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826920" y="5113440"/>
            <a:ext cx="5329440" cy="533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684360" y="5661000"/>
            <a:ext cx="68403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6324" descr=""/>
          <p:cNvPicPr/>
          <p:nvPr/>
        </p:nvPicPr>
        <p:blipFill>
          <a:blip r:embed="rId1"/>
          <a:stretch/>
        </p:blipFill>
        <p:spPr>
          <a:xfrm>
            <a:off x="252360" y="623880"/>
            <a:ext cx="8639280" cy="56102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2190600"/>
            <a:ext cx="29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7956720" y="486900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5300" descr=""/>
          <p:cNvPicPr/>
          <p:nvPr/>
        </p:nvPicPr>
        <p:blipFill>
          <a:blip r:embed="rId1"/>
          <a:stretch/>
        </p:blipFill>
        <p:spPr>
          <a:xfrm>
            <a:off x="295200" y="552600"/>
            <a:ext cx="8553600" cy="57528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3780000" y="144000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116000" y="3443400"/>
            <a:ext cx="3456000" cy="8492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258920" y="5748480"/>
            <a:ext cx="34560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4276" descr=""/>
          <p:cNvPicPr/>
          <p:nvPr/>
        </p:nvPicPr>
        <p:blipFill>
          <a:blip r:embed="rId1"/>
          <a:stretch/>
        </p:blipFill>
        <p:spPr>
          <a:xfrm>
            <a:off x="738360" y="1004760"/>
            <a:ext cx="7667280" cy="4848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332000" y="1974960"/>
            <a:ext cx="6408720" cy="877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476360" y="2881440"/>
            <a:ext cx="6408720" cy="877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332000" y="3803760"/>
            <a:ext cx="6408720" cy="877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692360" y="476892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1692360" y="5243400"/>
            <a:ext cx="374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02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